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FFD9-AD8E-42C8-9451-320DD4EA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98B9-22FF-4FEE-A00F-9285AF1F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CA77-F7F1-461B-9607-D90E35B4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FD0F-A631-4D8B-B6E2-67AB4F5F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7DDF-5CF5-44A5-80D8-3BAB0CA0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9D94-A674-4F54-AF30-408C9ABE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230B-B0F1-41CD-A086-4BB2CAB6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8416-366D-49C0-88F0-9AFDBC66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CEE2-3539-49BF-A498-1DC81BA7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9DD9-A07F-41C3-BDD4-446E9C01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122D-089D-4770-9301-4FD8861B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2B5B-E168-4DA4-AF07-E1461E04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71AA-417D-46B1-A930-0120BA797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152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2558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81520" y="1009800"/>
            <a:ext cx="4133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ark E. Dam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64771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01 - All Rights 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7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7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7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7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42884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7360" y="6338880"/>
            <a:ext cx="16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2280" y="76320"/>
            <a:ext cx="1523880" cy="5181120"/>
            <a:chOff x="152280" y="76320"/>
            <a:chExt cx="1523880" cy="5181120"/>
          </a:xfrm>
        </p:grpSpPr>
        <p:sp>
          <p:nvSpPr>
            <p:cNvPr id="52" name=""/>
            <p:cNvSpPr/>
            <p:nvPr/>
          </p:nvSpPr>
          <p:spPr>
            <a:xfrm>
              <a:off x="152280" y="440712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2280" y="378828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280" y="31694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280" y="25509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2280" y="19321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280" y="13136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2280" y="6951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280" y="763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315200" y="1219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14:15:00Z</dcterms:created>
  <dc:creator>Mark E. Damon</dc:creator>
  <dc:description/>
  <dc:language>en-US</dc:language>
  <cp:lastModifiedBy>Connie Campbell</cp:lastModifiedBy>
  <dcterms:modified xsi:type="dcterms:W3CDTF">2002-05-31T22:09:32Z</dcterms:modified>
  <cp:revision>16</cp:revision>
  <dc:subject/>
  <dc:title>No Slide Title</dc:title>
</cp:coreProperties>
</file>